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C93-7F19-426F-8F88-B90497B5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7E6-BFEB-42F1-9977-EA323518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E8E-6FBF-473C-918D-8563FEDA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946-BCDC-4A63-BA9E-EDA66689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9F5-3120-4917-9A1E-F8512A5C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316-AC80-43C7-B8EB-934C8B38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EA1-89A5-4305-B880-818EE532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705-9D68-46A8-AA6E-4A126472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873-1607-46CF-85C3-C93F8481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E57-B6F7-4CC2-BB71-7C6FDDA3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CBF-5AF1-4BEF-A23D-3799A5C8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0AC-3B13-45DF-8F4B-5126A01E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30E4-F6F0-49FB-8506-DE9EEEB0982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OVA ALVORADA DO SUL – 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E. E. DELFINA N. DE SOUZA – EXTENSÃO PA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PROGETEC: APARECIDO RODRIGUES SANTA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MULTIPLICADORA: MARÍL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GED – NTE REG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ossibilidades de avaliação com uso das TIC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rabalho de pesquisa on line ou off line na STE em grupo, dupla e ou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bates, seminários, apresentações em Power Point com mediação do profess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Utilizar Movie Maker para fazer filmes com imagens ou fotografias do próprio contex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scrição de duas situações de avaliaçã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 Produção Interativa os alunos do Ensino Médio do Campo fazem uma leitura interpretativa de temas do cotidiano e após essa leitura produzem textos com opiniões pessoais sobre o tema. Em seguida, escolhem uma música que condiz com o texto e produzem uma paródia que é apresentada a toda turma compostagens no facebook. Todo o processo é feito pelos alunos e o professor regente acompanha dando dicas e tirando dúvidas, a avaliação ocorre durante toda a ativida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 Eixos Temáticos:TVT os estudantes se reúnem por grupos de afinidades, fazem uma conversa do que eles tem de afinidades e de diferenças, escolhem uma música que mais identificam o grupo. Produzem slides para apresentação das afinidades e apresentam a música para toda a turm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rientações para melhorar a avaliação formativa com uso das TIC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senvolver atividades onde o aluno possa ser o autor/protagonista do process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dução de textos é uma ótima ferramenta, desde que os educand@s façam sem a ajuda e cópia de outros textos da interne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iação de vídeos e slides são também umas das opções interessantes para que educand@s aprendam a utilizar estas ferramenta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so de Vídeos e ou filmes também são importantes quando os professores utilizam nas  finalizações dos conteú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11:49:11Z</dcterms:created>
  <dc:creator>micro9</dc:creator>
  <dc:description/>
  <dc:language>en-US</dc:language>
  <cp:lastModifiedBy>MICRO-1</cp:lastModifiedBy>
  <dcterms:modified xsi:type="dcterms:W3CDTF">2015-09-02T19:16:10Z</dcterms:modified>
  <cp:revision>8</cp:revision>
  <dc:subject/>
  <dc:title>NOVA ALVORADA DO SUL – MS</dc:title>
</cp:coreProperties>
</file>